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whoosh.wav" ContentType="audio/x-wav"/>
  <Override PartName="/ppt/media/image5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media/image11.png" ContentType="image/png"/>
  <Override PartName="/ppt/media/camera.wav" ContentType="audio/x-wav"/>
  <Override PartName="/ppt/media/image22.png" ContentType="image/png"/>
  <Override PartName="/ppt/media/image12.png" ContentType="image/png"/>
  <Override PartName="/ppt/media/image13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7450-B85C-40EB-AB70-A000C249B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4733-F932-405A-8121-6828225B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B11E-7D2C-4BA4-AC6E-29AADF6D9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A8B1-AF30-40C2-8AED-27BEE403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F6CE-8BAB-4487-9900-2CA4D075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E33B-DF42-446E-84B0-ED6EFDF4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EB0B-A9B0-45FB-9BAF-57552FBC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7DB0-446A-42CE-A29A-7363FDD7A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89BF-4587-4FFE-9C06-9B5526D3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A970-3F42-4958-A6B5-F74BE64F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0FA5-4FA3-4573-AE43-6389D75F9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2C96-FECB-41ED-BDA5-D214FF4A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d1d8f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966D-489D-491F-AAB2-8ACC1ABD1C6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../media/whoosh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c1c1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553E-2770-4B47-9C51-5AEAB853A45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9900"/>
                </a:solidFill>
                <a:latin typeface="Times New Roman"/>
              </a:rPr>
              <a:t>Concept Gen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Group 3"/>
          <p:cNvGrpSpPr/>
          <p:nvPr/>
        </p:nvGrpSpPr>
        <p:grpSpPr>
          <a:xfrm>
            <a:off x="533520" y="2438280"/>
            <a:ext cx="8153280" cy="1371600"/>
            <a:chOff x="533520" y="2438280"/>
            <a:chExt cx="8153280" cy="1371600"/>
          </a:xfrm>
        </p:grpSpPr>
        <p:sp>
          <p:nvSpPr>
            <p:cNvPr id="46" name="Arc 4"/>
            <p:cNvSpPr/>
            <p:nvPr/>
          </p:nvSpPr>
          <p:spPr>
            <a:xfrm>
              <a:off x="5783400" y="2438280"/>
              <a:ext cx="2903400" cy="13716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Arc 5"/>
            <p:cNvSpPr/>
            <p:nvPr/>
          </p:nvSpPr>
          <p:spPr>
            <a:xfrm>
              <a:off x="5708880" y="2579760"/>
              <a:ext cx="2906640" cy="108828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Arc 6"/>
            <p:cNvSpPr/>
            <p:nvPr/>
          </p:nvSpPr>
          <p:spPr>
            <a:xfrm>
              <a:off x="5666040" y="2768760"/>
              <a:ext cx="2904840" cy="71028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AutoShape 7"/>
            <p:cNvSpPr/>
            <p:nvPr/>
          </p:nvSpPr>
          <p:spPr>
            <a:xfrm>
              <a:off x="533520" y="3051720"/>
              <a:ext cx="7918560" cy="14112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ooter Placeholder 4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DF0D2-6CC5-4170-A7FA-7F7819A08D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Brainstorming – Idea Gen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914400" y="1066680"/>
            <a:ext cx="7391520" cy="17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Make Ana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What analogies exist in nature? What analogous products exist? How do these products solve the same product function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990720" y="2895480"/>
            <a:ext cx="6324480" cy="10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Wish and wo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What if …..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990720" y="3962520"/>
            <a:ext cx="7391160" cy="19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ketch/use physical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What would an idea look like? How does this model satisfies the function? What can we change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5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483B-60AD-4EFD-B3EA-969755471A8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Brainstorming – Idea Gen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838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liminate or minim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Can we remove a feature? What can we use to replace a feature? What if a feature were smaller? Could we divide it into two parts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Modify and magnif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What can be made larger or extended? What can be exaggerated? What can add extra value? What can be duplicated? Convert a round section to a straight one? Can motion, form, shape, color, sound, odor be changed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Comb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Can we combine purposes? How about assortments? How about blending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3FED-DF43-46EA-8551-4D2836B3D4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Brainstorming – Idea Gener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Reverse or rear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Should we turn it around? Up instead of          down?Consider it backwards? What other arrangements might be better? Interchange components? Do the unexpected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Substit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What can be substituted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Ada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What else is like this? What other ideas this suggest? What could we copy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5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4D065-2BC7-4DF3-B004-936994EADC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Sketch and 6-3-5 method</a:t>
            </a:r>
            <a:br>
              <a:rPr sz="3200"/>
            </a:b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Brain-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28195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Team members are arranged around a circular table to provide continuity. Six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(6)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members are ideal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Each member sketches three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(3)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ideas for the product configuration or functions. Sketches should be the focus of this activity. The top five product functions with respect to the customer needs are consider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09480" y="990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 traditional brainstorming relies on verbal communications. Idea generation may be dominated by a small number of aggressive memb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609480" y="228600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9ff99"/>
                </a:solidFill>
                <a:uFillTx/>
                <a:latin typeface="Times New Roman"/>
              </a:rPr>
              <a:t>Guideline for 6-3-5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3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Footer Placeholder 4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4FB9-52A9-4633-A8E6-8F0BCD261B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Sketch and 6-3-5 method</a:t>
            </a:r>
            <a:br>
              <a:rPr sz="3200"/>
            </a:b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Brain-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The three ideas are passed to the right. A certain time limit is set to add additional ideas and to modify or extend the ideas. This is done for five </a:t>
            </a:r>
            <a:r>
              <a:rPr b="1" lang="en-US" sz="2600" spc="-1" strike="noStrike">
                <a:solidFill>
                  <a:srgbClr val="ffff00"/>
                </a:solidFill>
                <a:latin typeface="Times New Roman"/>
              </a:rPr>
              <a:t>(5)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round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No verbal communication until a round is complet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Traditional brainstorming may be implemented after a few rounds of 6-5-3 sess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The focus of the modifications during the passing of ideas should be on advancing the ideas, not on negative criticism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1BEA4-1F17-4B0C-A350-05B1ABA713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11736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Example of a 6-3-5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843200" y="118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rcRect l="0" t="0" r="1673" b="1022"/>
          <a:stretch/>
        </p:blipFill>
        <p:spPr>
          <a:xfrm>
            <a:off x="1143000" y="1219320"/>
            <a:ext cx="6369120" cy="5270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0" name="Text Box 5"/>
          <p:cNvSpPr/>
          <p:nvPr/>
        </p:nvSpPr>
        <p:spPr>
          <a:xfrm>
            <a:off x="609480" y="69516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ower screw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41EE-E523-4A3E-B65F-029A45FA8C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Example of a 6-3-5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186696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>
            <a:lum contrast="22000"/>
          </a:blip>
          <a:srcRect l="0" t="2219" r="0" b="0"/>
          <a:stretch/>
        </p:blipFill>
        <p:spPr>
          <a:xfrm>
            <a:off x="768240" y="857160"/>
            <a:ext cx="7635960" cy="5691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Date Placeholder 3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5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BB86C-3930-4245-8561-0766A6E3258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240" y="304920"/>
            <a:ext cx="84582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Concept Generation – Advanced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enerating ideas from physical princip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enerating ideas using classifying sche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Generating concepts by implementing the Theory of Inventive Problem Solving (TIP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38080" y="9907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Directed-search or logical concept generation methods are used to develop ideas in a step-by-step comprehensive fash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04BD-A4BB-4F1E-9B63-C273E5A81C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Generating ideas from physical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990720" y="106668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tate possible physical principles that can govern the product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990720" y="1905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If a known physical effect can be described by a known equation with independent variables, then these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ariables can be changed to generate different concep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8"/>
          <p:cNvGrpSpPr/>
          <p:nvPr/>
        </p:nvGrpSpPr>
        <p:grpSpPr>
          <a:xfrm>
            <a:off x="990720" y="4724280"/>
            <a:ext cx="7238880" cy="1069560"/>
            <a:chOff x="990720" y="4724280"/>
            <a:chExt cx="7238880" cy="1069560"/>
          </a:xfrm>
        </p:grpSpPr>
        <p:sp>
          <p:nvSpPr>
            <p:cNvPr id="180" name="Text Box 6"/>
            <p:cNvSpPr/>
            <p:nvPr/>
          </p:nvSpPr>
          <p:spPr>
            <a:xfrm>
              <a:off x="990720" y="4724280"/>
              <a:ext cx="72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Change in length of a rod due to temperature chan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7"/>
            <p:cNvSpPr/>
            <p:nvPr/>
          </p:nvSpPr>
          <p:spPr>
            <a:xfrm>
              <a:off x="1367640" y="5334120"/>
              <a:ext cx="5861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99"/>
                  </a:solidFill>
                  <a:latin typeface="Times New Roman"/>
                </a:rPr>
                <a:t>Change in length = α </a:t>
              </a:r>
              <a:r>
                <a:rPr b="0" lang="en-US" sz="2400" spc="-1" strike="noStrike">
                  <a:solidFill>
                    <a:srgbClr val="ffff99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99"/>
                  </a:solidFill>
                  <a:latin typeface="Times New Roman"/>
                </a:rPr>
                <a:t>change in temp.</a:t>
              </a:r>
              <a:r>
                <a:rPr b="0" lang="en-US" sz="2400" spc="-1" strike="noStrike">
                  <a:solidFill>
                    <a:srgbClr val="ffff99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99"/>
                  </a:solidFill>
                  <a:latin typeface="Times New Roman"/>
                </a:rPr>
                <a:t> leng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Group 10"/>
          <p:cNvGrpSpPr/>
          <p:nvPr/>
        </p:nvGrpSpPr>
        <p:grpSpPr>
          <a:xfrm>
            <a:off x="990720" y="3352680"/>
            <a:ext cx="7238880" cy="1069560"/>
            <a:chOff x="990720" y="3352680"/>
            <a:chExt cx="7238880" cy="1069560"/>
          </a:xfrm>
        </p:grpSpPr>
        <p:sp>
          <p:nvSpPr>
            <p:cNvPr id="183" name="Text Box 4"/>
            <p:cNvSpPr/>
            <p:nvPr/>
          </p:nvSpPr>
          <p:spPr>
            <a:xfrm>
              <a:off x="990720" y="3352680"/>
              <a:ext cx="7238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00"/>
                  </a:solidFill>
                  <a:uFillTx/>
                  <a:latin typeface="Times New Roman"/>
                </a:rPr>
                <a:t>Dynamic force applied to a me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9"/>
            <p:cNvSpPr/>
            <p:nvPr/>
          </p:nvSpPr>
          <p:spPr>
            <a:xfrm>
              <a:off x="1445760" y="3962520"/>
              <a:ext cx="396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99"/>
                  </a:solidFill>
                  <a:latin typeface="Times New Roman"/>
                </a:rPr>
                <a:t>Force =  </a:t>
              </a:r>
              <a:r>
                <a:rPr b="0" lang="en-US" sz="2400" spc="-1" strike="noStrike">
                  <a:solidFill>
                    <a:srgbClr val="ffff99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99"/>
                  </a:solidFill>
                  <a:latin typeface="Times New Roman"/>
                </a:rPr>
                <a:t>mass</a:t>
              </a:r>
              <a:r>
                <a:rPr b="0" lang="en-US" sz="2400" spc="-1" strike="noStrike">
                  <a:solidFill>
                    <a:srgbClr val="ffff99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99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ff99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99"/>
                  </a:solidFill>
                  <a:latin typeface="Times New Roman"/>
                </a:rPr>
                <a:t>acceleration</a:t>
              </a:r>
              <a:r>
                <a:rPr b="0" lang="en-US" sz="2400" spc="-1" strike="noStrike">
                  <a:solidFill>
                    <a:srgbClr val="ffff99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8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851C-A430-40E1-8E27-A0372C6B1F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Generating ideas from physical prin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2986200" y="9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3" descr=""/>
          <p:cNvPicPr/>
          <p:nvPr/>
        </p:nvPicPr>
        <p:blipFill>
          <a:blip r:embed="rId1"/>
          <a:srcRect l="0" t="1794" r="0" b="0"/>
          <a:stretch/>
        </p:blipFill>
        <p:spPr>
          <a:xfrm>
            <a:off x="3689280" y="762120"/>
            <a:ext cx="3703680" cy="5838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91" name="Text Box 5"/>
          <p:cNvSpPr/>
          <p:nvPr/>
        </p:nvSpPr>
        <p:spPr>
          <a:xfrm>
            <a:off x="457200" y="990720"/>
            <a:ext cx="34290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apacitive Parallel-plate system for sens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 = A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ε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/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69CC3-EBCE-4347-93F5-51526D6AED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Concept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990720" y="68580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e underlying goal of concept generation is to develop as many ideas as possible, the more the be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04920" y="1676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The process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2971800" y="1676520"/>
            <a:ext cx="3048120" cy="990360"/>
          </a:xfrm>
          <a:prstGeom prst="flowChartProcess">
            <a:avLst/>
          </a:prstGeom>
          <a:solidFill>
            <a:srgbClr val="66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derstanding the prima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ustomer Needs a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ngineering Specif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16"/>
          <p:cNvGrpSpPr/>
          <p:nvPr/>
        </p:nvGrpSpPr>
        <p:grpSpPr>
          <a:xfrm>
            <a:off x="2971800" y="2666880"/>
            <a:ext cx="2971800" cy="1067040"/>
            <a:chOff x="2971800" y="2666880"/>
            <a:chExt cx="2971800" cy="1067040"/>
          </a:xfrm>
        </p:grpSpPr>
        <p:sp>
          <p:nvSpPr>
            <p:cNvPr id="58" name="AutoShape 7"/>
            <p:cNvSpPr/>
            <p:nvPr/>
          </p:nvSpPr>
          <p:spPr>
            <a:xfrm>
              <a:off x="2971800" y="2971800"/>
              <a:ext cx="2971800" cy="762120"/>
            </a:xfrm>
            <a:prstGeom prst="flowChartProcess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Decompose the Produ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According to Fun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12"/>
            <p:cNvSpPr/>
            <p:nvPr/>
          </p:nvSpPr>
          <p:spPr>
            <a:xfrm>
              <a:off x="4419720" y="266688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" name="Group 17"/>
          <p:cNvGrpSpPr/>
          <p:nvPr/>
        </p:nvGrpSpPr>
        <p:grpSpPr>
          <a:xfrm>
            <a:off x="2971800" y="3733920"/>
            <a:ext cx="3048120" cy="1295280"/>
            <a:chOff x="2971800" y="3733920"/>
            <a:chExt cx="3048120" cy="1295280"/>
          </a:xfrm>
        </p:grpSpPr>
        <p:sp>
          <p:nvSpPr>
            <p:cNvPr id="61" name="AutoShape 8"/>
            <p:cNvSpPr/>
            <p:nvPr/>
          </p:nvSpPr>
          <p:spPr>
            <a:xfrm>
              <a:off x="2971800" y="4038480"/>
              <a:ext cx="3048120" cy="990720"/>
            </a:xfrm>
            <a:prstGeom prst="flowChartProcess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earch for Solutions f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each Product Fun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14"/>
            <p:cNvSpPr/>
            <p:nvPr/>
          </p:nvSpPr>
          <p:spPr>
            <a:xfrm>
              <a:off x="4419720" y="373392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" name="Group 18"/>
          <p:cNvGrpSpPr/>
          <p:nvPr/>
        </p:nvGrpSpPr>
        <p:grpSpPr>
          <a:xfrm>
            <a:off x="3200400" y="5029200"/>
            <a:ext cx="2590920" cy="1523880"/>
            <a:chOff x="3200400" y="5029200"/>
            <a:chExt cx="2590920" cy="1523880"/>
          </a:xfrm>
        </p:grpSpPr>
        <p:sp>
          <p:nvSpPr>
            <p:cNvPr id="64" name="AutoShape 9"/>
            <p:cNvSpPr/>
            <p:nvPr/>
          </p:nvSpPr>
          <p:spPr>
            <a:xfrm>
              <a:off x="3200400" y="5334120"/>
              <a:ext cx="2590920" cy="1218960"/>
            </a:xfrm>
            <a:prstGeom prst="flowChartProcess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mbine Solutions in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Concept Varia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Line 15"/>
            <p:cNvSpPr/>
            <p:nvPr/>
          </p:nvSpPr>
          <p:spPr>
            <a:xfrm>
              <a:off x="4496040" y="5029200"/>
              <a:ext cx="0" cy="304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Date Placeholder 3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Footer Placeholder 4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4096-1821-47B2-8349-C9F9B49DEB2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Generating ideas using classifying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Times New Roman"/>
              </a:rPr>
              <a:t>Mo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Type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–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Stationary, translational, rotati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Nature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– Uniform, non-uniform, oscilla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Planar, three dimensio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Number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– one, several, composite mo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Times New Roman"/>
              </a:rPr>
              <a:t>Basic material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Stat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–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Solid, liquid, gaseo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Behavior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– Rigid, elastic, viscou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ff00"/>
                </a:solidFill>
                <a:latin typeface="Times New Roman"/>
              </a:rPr>
              <a:t>Form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– Solid bodies, powder, grai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838080" y="9144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lassifying schemes are categories of high-level physical principles or geometry. They help in developing concepts that may not have been considered in a purely intuitive approa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Date Placeholder 3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ooter Placeholder 4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5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028A-C7C8-4C7F-8E77-30B3CEDF8D2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Generating ideas using classifying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Times New Roman"/>
              </a:rPr>
              <a:t>Basic structural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ff99"/>
                </a:solidFill>
                <a:latin typeface="Times New Roman"/>
              </a:rPr>
              <a:t>Joints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– rigid, rotational, slid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ff99"/>
                </a:solidFill>
                <a:latin typeface="Times New Roman"/>
              </a:rPr>
              <a:t>Alignment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– horizontal, vertical, angled, trus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ff99"/>
                </a:solidFill>
                <a:latin typeface="Times New Roman"/>
              </a:rPr>
              <a:t>Loading conditions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– tension, compression,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bending, tor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ff99"/>
                </a:solidFill>
                <a:uFillTx/>
                <a:latin typeface="Times New Roman"/>
              </a:rPr>
              <a:t>Geo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ff99"/>
                </a:solidFill>
                <a:latin typeface="Times New Roman"/>
              </a:rPr>
              <a:t>Size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– small, large, narrow, tall, low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ff99"/>
                </a:solidFill>
                <a:latin typeface="Times New Roman"/>
              </a:rPr>
              <a:t>Shape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– cylindrical, cone, cube, spher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i="1" lang="en-US" sz="2600" spc="-1" strike="noStrike">
                <a:solidFill>
                  <a:srgbClr val="ffff99"/>
                </a:solidFill>
                <a:latin typeface="Times New Roman"/>
              </a:rPr>
              <a:t>Position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 – Axial, radial, tangential, vertic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D96B-7C6A-41D8-BA81-6F53F8CE53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Generating ideas using classifying sche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85800" y="6858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o use a classification scheme, the design team should focus on the primary product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257560" y="11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5756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6" descr=""/>
          <p:cNvPicPr/>
          <p:nvPr/>
        </p:nvPicPr>
        <p:blipFill>
          <a:blip r:embed="rId1"/>
          <a:srcRect l="0" t="0" r="0" b="15931"/>
          <a:stretch/>
        </p:blipFill>
        <p:spPr>
          <a:xfrm>
            <a:off x="2374920" y="1622520"/>
            <a:ext cx="6172200" cy="5075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11" name="Text Box 12"/>
          <p:cNvSpPr/>
          <p:nvPr/>
        </p:nvSpPr>
        <p:spPr>
          <a:xfrm>
            <a:off x="182520" y="1843200"/>
            <a:ext cx="216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Example:   Storing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2637000" y="6585120"/>
            <a:ext cx="5698800" cy="10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27AA-22D9-40A8-8431-D7C77A5FC8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Generating concepts by implementing the Theory of Inventive Problem Solving (TIP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1143000" y="1600200"/>
            <a:ext cx="6934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The theory was developed by discovering that patterns exist in patents. Originally by Altshuller in late 1940s and revised by Domb and Slocum, 1998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143000" y="3505320"/>
            <a:ext cx="670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99"/>
                </a:solidFill>
                <a:latin typeface="Times New Roman"/>
              </a:rPr>
              <a:t>After studying millions of patents, it was discovered that patents fall into five categori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9B84-E3E5-46B2-B417-DB4247A23B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00"/>
                </a:solidFill>
                <a:latin typeface="Times New Roman"/>
              </a:rPr>
              <a:t>Generating concepts by implementing the Theory of Inventive Problem Solving (TIP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320040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Identifying conflicts and solving them with known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physical principles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Identifying new principles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Identifying new product functions and solving them 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with known or new principles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99"/>
                </a:solidFill>
                <a:latin typeface="Times New Roman"/>
              </a:rPr>
              <a:t>	</a:t>
            </a:r>
            <a:r>
              <a:rPr b="0" i="1" lang="en-US" sz="2600" spc="-1" strike="noStrike">
                <a:solidFill>
                  <a:srgbClr val="99ff99"/>
                </a:solidFill>
                <a:latin typeface="Times New Roman"/>
              </a:rPr>
              <a:t>The last three categories represent designs that include inventive solutio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09480" y="1371600"/>
            <a:ext cx="80773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Basic parametric advancement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0" lang="en-US" sz="2600" spc="-1" strike="noStrike">
                <a:solidFill>
                  <a:srgbClr val="ffff00"/>
                </a:solidFill>
                <a:latin typeface="Times New Roman"/>
              </a:rPr>
              <a:t>Change or rearrangement in configuration.”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189000" y="2287440"/>
            <a:ext cx="79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The first two are considered “routine design”, they do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not exhibit significant innov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A5CB-E2E9-478A-AA6F-E7EA3797304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Generalized Engineering Parameters for Describing Product Matr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4"/>
          <p:cNvSpPr/>
          <p:nvPr/>
        </p:nvSpPr>
        <p:spPr>
          <a:xfrm>
            <a:off x="200988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04920" y="1249200"/>
            <a:ext cx="8628120" cy="529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B3C01-1438-4959-A57E-837D67521F6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9900"/>
                </a:solidFill>
                <a:latin typeface="Times New Roman"/>
              </a:rPr>
              <a:t>TIPS’ Design Princi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1143000" y="12952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re are 40 “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design princip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85800" y="19810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inciple of segmentation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ivide the object into independent parts that are easy to disassemble, increase the degree of segmentation as much a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6"/>
          <p:cNvSpPr/>
          <p:nvPr/>
        </p:nvSpPr>
        <p:spPr>
          <a:xfrm>
            <a:off x="685800" y="33526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inciple of removal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Remove the necessary or disturbing part from the obje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7"/>
          <p:cNvSpPr/>
          <p:nvPr/>
        </p:nvSpPr>
        <p:spPr>
          <a:xfrm>
            <a:off x="685800" y="434340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rinciple of local quality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Change the object’s or environment’s structure from homogeneous to non-homogenous. Let different parts of the object carry different function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9C049-0631-4884-8A3D-651F651E9E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1814400" y="7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>
            <a:lum contrast="30000"/>
          </a:blip>
          <a:srcRect l="0" t="13469" r="0" b="0"/>
          <a:stretch/>
        </p:blipFill>
        <p:spPr>
          <a:xfrm>
            <a:off x="1654200" y="1090440"/>
            <a:ext cx="6858000" cy="5767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5" name="Text Box 5"/>
          <p:cNvSpPr/>
          <p:nvPr/>
        </p:nvSpPr>
        <p:spPr>
          <a:xfrm>
            <a:off x="0" y="7621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PS’ Design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6" descr=""/>
          <p:cNvPicPr/>
          <p:nvPr/>
        </p:nvPicPr>
        <p:blipFill>
          <a:blip r:embed="rId2">
            <a:lum contrast="30000"/>
          </a:blip>
          <a:srcRect l="0" t="0" r="0" b="86940"/>
          <a:stretch/>
        </p:blipFill>
        <p:spPr>
          <a:xfrm>
            <a:off x="1654200" y="190440"/>
            <a:ext cx="6858000" cy="8715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47" name="Rectangle 7"/>
          <p:cNvSpPr/>
          <p:nvPr/>
        </p:nvSpPr>
        <p:spPr>
          <a:xfrm>
            <a:off x="1855800" y="3754440"/>
            <a:ext cx="6429240" cy="360360"/>
          </a:xfrm>
          <a:prstGeom prst="rect">
            <a:avLst/>
          </a:prstGeom>
          <a:solidFill>
            <a:srgbClr val="ff99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1865160" y="5307120"/>
            <a:ext cx="6429600" cy="360360"/>
          </a:xfrm>
          <a:prstGeom prst="rect">
            <a:avLst/>
          </a:prstGeom>
          <a:solidFill>
            <a:srgbClr val="ff99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1882800" y="1676520"/>
            <a:ext cx="6429240" cy="360360"/>
          </a:xfrm>
          <a:prstGeom prst="rect">
            <a:avLst/>
          </a:prstGeom>
          <a:solidFill>
            <a:srgbClr val="ff99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D47E-3869-4402-A91F-447B74CD64E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1852560" y="5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676520" y="149400"/>
            <a:ext cx="6235560" cy="6629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55" name="Rectangle 5"/>
          <p:cNvSpPr/>
          <p:nvPr/>
        </p:nvSpPr>
        <p:spPr>
          <a:xfrm>
            <a:off x="228600" y="4572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IPS’ Design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1760400" y="5675400"/>
            <a:ext cx="6002640" cy="344520"/>
          </a:xfrm>
          <a:prstGeom prst="rect">
            <a:avLst/>
          </a:prstGeom>
          <a:solidFill>
            <a:srgbClr val="ff99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1760400" y="3754440"/>
            <a:ext cx="5958000" cy="376200"/>
          </a:xfrm>
          <a:prstGeom prst="rect">
            <a:avLst/>
          </a:prstGeom>
          <a:solidFill>
            <a:srgbClr val="ff99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8"/>
          <p:cNvSpPr/>
          <p:nvPr/>
        </p:nvSpPr>
        <p:spPr>
          <a:xfrm>
            <a:off x="1760400" y="2368440"/>
            <a:ext cx="5956560" cy="451080"/>
          </a:xfrm>
          <a:prstGeom prst="rect">
            <a:avLst/>
          </a:prstGeom>
          <a:solidFill>
            <a:srgbClr val="ff99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1760400" y="1544760"/>
            <a:ext cx="5973840" cy="360360"/>
          </a:xfrm>
          <a:prstGeom prst="rect">
            <a:avLst/>
          </a:prstGeom>
          <a:solidFill>
            <a:srgbClr val="ff9966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C92AA-8407-4B02-B586-8BBD3FE90D8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1268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Relationship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4"/>
          <p:cNvSpPr/>
          <p:nvPr/>
        </p:nvSpPr>
        <p:spPr>
          <a:xfrm>
            <a:off x="2414520" y="18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>
            <a:lum contrast="30000"/>
          </a:blip>
          <a:srcRect l="3178" t="2885" r="3178" b="2885"/>
          <a:stretch/>
        </p:blipFill>
        <p:spPr>
          <a:xfrm>
            <a:off x="1704960" y="758880"/>
            <a:ext cx="7354800" cy="542772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5"/>
          <p:cNvSpPr/>
          <p:nvPr/>
        </p:nvSpPr>
        <p:spPr>
          <a:xfrm>
            <a:off x="0" y="888840"/>
            <a:ext cx="1859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The tables relate generalized engr. parameters to generalized solution principles. Each column and row represents generalized engr. Parameters, and the cell contents represents the suggested generalized solution principles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DC7A9-BEE2-4D74-B33B-4A9FC80A0D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Concept Generation – Basic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7720" y="1143000"/>
            <a:ext cx="8001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uitive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ocuses on idea generation from within an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individual or group of individuals. The intent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is to remove barriers to divergent thinking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nd promote creative thinking (Brainstorming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838080" y="3657600"/>
            <a:ext cx="7772400" cy="19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irected (Logical)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 systematic, step-by-step approach to searching for a solution. It relies on technical information, guidelines and experti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A89B-6243-47AF-AB17-2BAEACF412E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-957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Relationship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4"/>
          <p:cNvSpPr/>
          <p:nvPr/>
        </p:nvSpPr>
        <p:spPr>
          <a:xfrm>
            <a:off x="2352600" y="164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Picture 3" descr=""/>
          <p:cNvPicPr/>
          <p:nvPr/>
        </p:nvPicPr>
        <p:blipFill>
          <a:blip r:embed="rId1"/>
          <a:srcRect l="2061" t="5137" r="2061" b="5137"/>
          <a:stretch/>
        </p:blipFill>
        <p:spPr>
          <a:xfrm>
            <a:off x="625320" y="730080"/>
            <a:ext cx="7991640" cy="60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3213-1B40-4D80-83C8-0F8647765A8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Example using T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8"/>
          <p:cNvGrpSpPr/>
          <p:nvPr/>
        </p:nvGrpSpPr>
        <p:grpSpPr>
          <a:xfrm>
            <a:off x="609480" y="3809880"/>
            <a:ext cx="7543800" cy="2801880"/>
            <a:chOff x="609480" y="3809880"/>
            <a:chExt cx="7543800" cy="2801880"/>
          </a:xfrm>
        </p:grpSpPr>
        <p:sp>
          <p:nvSpPr>
            <p:cNvPr id="278" name="Text Box 3"/>
            <p:cNvSpPr/>
            <p:nvPr/>
          </p:nvSpPr>
          <p:spPr>
            <a:xfrm>
              <a:off x="609480" y="4191120"/>
              <a:ext cx="42674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99"/>
                  </a:solidFill>
                  <a:latin typeface="Times New Roman"/>
                </a:rPr>
                <a:t>From table of  engineering parameters, the conflict is with regard to force (#10) verses weight of moving object (#1)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9" name="Picture 4" descr=""/>
            <p:cNvPicPr/>
            <p:nvPr/>
          </p:nvPicPr>
          <p:blipFill>
            <a:blip r:embed="rId1">
              <a:lum contrast="20000"/>
            </a:blip>
            <a:srcRect l="0" t="0" r="67864" b="47968"/>
            <a:stretch/>
          </p:blipFill>
          <p:spPr>
            <a:xfrm>
              <a:off x="5334120" y="3809880"/>
              <a:ext cx="2819160" cy="280188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  <p:sp>
        <p:nvSpPr>
          <p:cNvPr id="280" name="Rectangle 5"/>
          <p:cNvSpPr/>
          <p:nvPr/>
        </p:nvSpPr>
        <p:spPr>
          <a:xfrm>
            <a:off x="533520" y="8380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Consider the evolution of the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iron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product for smoothing wrinkles from cloth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533520" y="16765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 important function of an iron is to transfer force to the clothing to remove wrinkles. It is equally important that it should reduce the force on the user (comfortable 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7"/>
          <p:cNvSpPr/>
          <p:nvPr/>
        </p:nvSpPr>
        <p:spPr>
          <a:xfrm>
            <a:off x="533520" y="28954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The conflict is that we want a heavy iron to remove wrinkles but we do not want a heavy iron due to the impact on ergonomic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0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AB07-2C97-4D91-9D02-ACE7539C61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>
            <a:lum contrast="30000"/>
          </a:blip>
          <a:srcRect l="4238" t="2885" r="33901" b="44134"/>
          <a:stretch/>
        </p:blipFill>
        <p:spPr>
          <a:xfrm>
            <a:off x="984240" y="2239920"/>
            <a:ext cx="6757920" cy="4251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30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Example using T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457200" y="631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Using the relationship matrix table, TIPS principles “8, 1, 18, and 37” apply to the probl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6"/>
          <p:cNvSpPr/>
          <p:nvPr/>
        </p:nvSpPr>
        <p:spPr>
          <a:xfrm flipV="1">
            <a:off x="6064200" y="2590200"/>
            <a:ext cx="76320" cy="15228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0"/>
          <p:cNvSpPr/>
          <p:nvPr/>
        </p:nvSpPr>
        <p:spPr>
          <a:xfrm>
            <a:off x="5840280" y="2604960"/>
            <a:ext cx="32868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5793480" y="2523960"/>
            <a:ext cx="44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8 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5734080" y="2681280"/>
            <a:ext cx="58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18 3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1"/>
          <p:cNvSpPr/>
          <p:nvPr/>
        </p:nvSpPr>
        <p:spPr>
          <a:xfrm>
            <a:off x="5008680" y="151128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Engineering parameter, #10 (for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12"/>
          <p:cNvSpPr/>
          <p:nvPr/>
        </p:nvSpPr>
        <p:spPr>
          <a:xfrm flipH="1">
            <a:off x="6111360" y="1981080"/>
            <a:ext cx="381240" cy="4874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13"/>
          <p:cNvSpPr/>
          <p:nvPr/>
        </p:nvSpPr>
        <p:spPr>
          <a:xfrm>
            <a:off x="496800" y="1633680"/>
            <a:ext cx="381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imes New Roman"/>
              </a:rPr>
              <a:t>Engineering parameter, #1 (we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14"/>
          <p:cNvSpPr/>
          <p:nvPr/>
        </p:nvSpPr>
        <p:spPr>
          <a:xfrm flipH="1">
            <a:off x="1371240" y="2057400"/>
            <a:ext cx="655560" cy="7318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83533-96F7-4BC0-B3AD-8DE09C4720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Example using T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914400" y="106668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nciple #8 – consider adding a counter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nciple #1 – divide the design into independent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nciple #37 – consider thermal expans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Principle # 18 – consider adding vibration to the 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914400" y="38098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990720" y="3429000"/>
            <a:ext cx="739116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#8 suggests a levered counter we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#1 suggests a foot-operated sandwich i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#37 suggests adding water sp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#18 - mechanical vibration may be added with an eccentric weight that would increase the force into the clothing, while reducing the carrying weight of he ir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3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Footer Placeholder 4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5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9125-2136-45DA-9CD2-4A23D00EEBE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Summary of the TIPS Approa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termine the conflict(s) in the design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etermine the generalized engineering parame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termine the intersection in the TIPS table for the numbers of the engineering paramet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Read the principles that apply to help solve the probl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Use the design principles to develop creative solutions to the confli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554EF-C22D-4553-9B24-E9684E9505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Functional De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838080" y="9907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Design an easily removable device that can keep water and mud off the rider of a mountain bike without interfering with the bike’s op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298620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4" descr=""/>
          <p:cNvPicPr/>
          <p:nvPr/>
        </p:nvPicPr>
        <p:blipFill>
          <a:blip r:embed="rId1">
            <a:lum contrast="30000"/>
          </a:blip>
          <a:srcRect l="2885" t="0" r="0" b="0"/>
          <a:stretch/>
        </p:blipFill>
        <p:spPr>
          <a:xfrm>
            <a:off x="133200" y="2590920"/>
            <a:ext cx="4515120" cy="1995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16" name="Rectangle 7"/>
          <p:cNvSpPr/>
          <p:nvPr/>
        </p:nvSpPr>
        <p:spPr>
          <a:xfrm>
            <a:off x="3281400" y="2357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2523960" y="2733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12"/>
          <p:cNvSpPr/>
          <p:nvPr/>
        </p:nvSpPr>
        <p:spPr>
          <a:xfrm>
            <a:off x="350028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4"/>
          <p:cNvSpPr/>
          <p:nvPr/>
        </p:nvSpPr>
        <p:spPr>
          <a:xfrm>
            <a:off x="276696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287640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Picture 17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4724280" y="2057400"/>
            <a:ext cx="4419720" cy="3668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5AC9-04C8-4067-9FA9-FB29B0F0483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Functional Decompo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1">
            <a:lum contrast="22000"/>
          </a:blip>
          <a:srcRect l="4464" t="0" r="8929" b="0"/>
          <a:stretch/>
        </p:blipFill>
        <p:spPr>
          <a:xfrm>
            <a:off x="146160" y="1143000"/>
            <a:ext cx="4686120" cy="1836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27" name="Picture 5" descr=""/>
          <p:cNvPicPr/>
          <p:nvPr/>
        </p:nvPicPr>
        <p:blipFill>
          <a:blip r:embed="rId2">
            <a:lum contrast="30000"/>
          </a:blip>
          <a:srcRect l="0" t="0" r="0" b="5861"/>
          <a:stretch/>
        </p:blipFill>
        <p:spPr>
          <a:xfrm>
            <a:off x="3809880" y="3657600"/>
            <a:ext cx="5029200" cy="2043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28" name="Picture 6" descr=""/>
          <p:cNvPicPr/>
          <p:nvPr/>
        </p:nvPicPr>
        <p:blipFill>
          <a:blip r:embed="rId3">
            <a:lum contrast="20000"/>
          </a:blip>
          <a:srcRect l="5396" t="0" r="5396" b="0"/>
          <a:stretch/>
        </p:blipFill>
        <p:spPr>
          <a:xfrm>
            <a:off x="5019840" y="1141560"/>
            <a:ext cx="4012920" cy="1836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29" name="Picture 7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609480" y="3809880"/>
            <a:ext cx="2895840" cy="18147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B15B-0197-4EFB-B8A1-5408654AFB0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2971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eveloping Concept for each 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2205000" y="2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rcRect l="0" t="40639" r="0" b="0"/>
          <a:stretch/>
        </p:blipFill>
        <p:spPr>
          <a:xfrm>
            <a:off x="3581280" y="2787480"/>
            <a:ext cx="5064120" cy="407052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10"/>
          <p:cNvGrpSpPr/>
          <p:nvPr/>
        </p:nvGrpSpPr>
        <p:grpSpPr>
          <a:xfrm>
            <a:off x="0" y="1200240"/>
            <a:ext cx="8645400" cy="4632120"/>
            <a:chOff x="0" y="1200240"/>
            <a:chExt cx="8645400" cy="4632120"/>
          </a:xfrm>
        </p:grpSpPr>
        <p:pic>
          <p:nvPicPr>
            <p:cNvPr id="337" name="Picture 6" descr=""/>
            <p:cNvPicPr/>
            <p:nvPr/>
          </p:nvPicPr>
          <p:blipFill>
            <a:blip r:embed="rId2">
              <a:lum contrast="30000"/>
            </a:blip>
            <a:srcRect l="7602" t="0" r="7602" b="5861"/>
            <a:stretch/>
          </p:blipFill>
          <p:spPr>
            <a:xfrm>
              <a:off x="0" y="4191120"/>
              <a:ext cx="3425760" cy="164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Picture 7" descr=""/>
            <p:cNvPicPr/>
            <p:nvPr/>
          </p:nvPicPr>
          <p:blipFill>
            <a:blip r:embed="rId3"/>
            <a:srcRect l="0" t="17824" r="0" b="58463"/>
            <a:stretch/>
          </p:blipFill>
          <p:spPr>
            <a:xfrm>
              <a:off x="3581280" y="1200240"/>
              <a:ext cx="5064120" cy="1625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9" name="Group 9"/>
          <p:cNvGrpSpPr/>
          <p:nvPr/>
        </p:nvGrpSpPr>
        <p:grpSpPr>
          <a:xfrm>
            <a:off x="304920" y="0"/>
            <a:ext cx="8340480" cy="3652920"/>
            <a:chOff x="304920" y="0"/>
            <a:chExt cx="8340480" cy="3652920"/>
          </a:xfrm>
        </p:grpSpPr>
        <p:pic>
          <p:nvPicPr>
            <p:cNvPr id="340" name="Picture 5" descr=""/>
            <p:cNvPicPr/>
            <p:nvPr/>
          </p:nvPicPr>
          <p:blipFill>
            <a:blip r:embed="rId4">
              <a:lum contrast="20000"/>
            </a:blip>
            <a:stretch/>
          </p:blipFill>
          <p:spPr>
            <a:xfrm>
              <a:off x="304920" y="1981080"/>
              <a:ext cx="2666880" cy="1671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41" name="Picture 8" descr=""/>
            <p:cNvPicPr/>
            <p:nvPr/>
          </p:nvPicPr>
          <p:blipFill>
            <a:blip r:embed="rId5"/>
            <a:srcRect l="0" t="0" r="0" b="81564"/>
            <a:stretch/>
          </p:blipFill>
          <p:spPr>
            <a:xfrm>
              <a:off x="3581280" y="0"/>
              <a:ext cx="5064120" cy="1263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3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3BC6-39AF-4FBE-B7AE-A57CC9FD0C0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9900"/>
                </a:solidFill>
                <a:latin typeface="Times New Roman"/>
              </a:rPr>
              <a:t>Combine Solutions for each  Function into Concept Vari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4"/>
          <p:cNvSpPr/>
          <p:nvPr/>
        </p:nvSpPr>
        <p:spPr>
          <a:xfrm>
            <a:off x="2876400" y="28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Picture 3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762120" y="914400"/>
            <a:ext cx="4800600" cy="1590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48" name="Rectangle 6"/>
          <p:cNvSpPr/>
          <p:nvPr/>
        </p:nvSpPr>
        <p:spPr>
          <a:xfrm>
            <a:off x="269568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Picture 5" descr=""/>
          <p:cNvPicPr/>
          <p:nvPr/>
        </p:nvPicPr>
        <p:blipFill>
          <a:blip r:embed="rId2"/>
          <a:stretch/>
        </p:blipFill>
        <p:spPr>
          <a:xfrm>
            <a:off x="3200400" y="2784600"/>
            <a:ext cx="5257800" cy="16682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50" name="Rectangle 8"/>
          <p:cNvSpPr/>
          <p:nvPr/>
        </p:nvSpPr>
        <p:spPr>
          <a:xfrm>
            <a:off x="264780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7" descr=""/>
          <p:cNvPicPr/>
          <p:nvPr/>
        </p:nvPicPr>
        <p:blipFill>
          <a:blip r:embed="rId3"/>
          <a:stretch/>
        </p:blipFill>
        <p:spPr>
          <a:xfrm>
            <a:off x="762120" y="4800600"/>
            <a:ext cx="5105160" cy="1579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AE24-C45E-4D3C-A698-28050E0D98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9900"/>
                </a:solidFill>
                <a:latin typeface="Times New Roman"/>
              </a:rPr>
              <a:t>Combine Solutions for each  Function into Concept Vari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590920" y="23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3" descr=""/>
          <p:cNvPicPr/>
          <p:nvPr/>
        </p:nvPicPr>
        <p:blipFill>
          <a:blip r:embed="rId1"/>
          <a:srcRect l="2155" t="3677" r="4311" b="7354"/>
          <a:stretch/>
        </p:blipFill>
        <p:spPr>
          <a:xfrm>
            <a:off x="380880" y="762120"/>
            <a:ext cx="4267440" cy="23796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58" name="Rectangle 6"/>
          <p:cNvSpPr/>
          <p:nvPr/>
        </p:nvSpPr>
        <p:spPr>
          <a:xfrm>
            <a:off x="2757600" y="14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9" name="Picture 7" descr=""/>
          <p:cNvPicPr/>
          <p:nvPr/>
        </p:nvPicPr>
        <p:blipFill>
          <a:blip r:embed="rId2"/>
          <a:stretch/>
        </p:blipFill>
        <p:spPr>
          <a:xfrm>
            <a:off x="4419720" y="2165400"/>
            <a:ext cx="4343400" cy="24494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360" name="Picture 9" descr=""/>
          <p:cNvPicPr/>
          <p:nvPr/>
        </p:nvPicPr>
        <p:blipFill>
          <a:blip r:embed="rId3"/>
          <a:srcRect l="0" t="0" r="0" b="3794"/>
          <a:stretch/>
        </p:blipFill>
        <p:spPr>
          <a:xfrm>
            <a:off x="228600" y="4307040"/>
            <a:ext cx="4724280" cy="22968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Date Placeholder 3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8A1E-F840-4DBF-AABE-22F50EE416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16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Information Gath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1222200" y="44784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Knowledge is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– it leads to innov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rcRect l="0" t="0" r="0" b="2027"/>
          <a:stretch/>
        </p:blipFill>
        <p:spPr>
          <a:xfrm>
            <a:off x="1600200" y="1047600"/>
            <a:ext cx="5526000" cy="5715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30393-0B6C-4D4A-846A-71F147E06F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9900"/>
                </a:solidFill>
                <a:latin typeface="Times New Roman"/>
              </a:rPr>
              <a:t>Combine Solutions for each  Function into Concept Varia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4"/>
          <p:cNvSpPr/>
          <p:nvPr/>
        </p:nvSpPr>
        <p:spPr>
          <a:xfrm>
            <a:off x="2352600" y="123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3" descr=""/>
          <p:cNvPicPr/>
          <p:nvPr/>
        </p:nvPicPr>
        <p:blipFill>
          <a:blip r:embed="rId1"/>
          <a:stretch/>
        </p:blipFill>
        <p:spPr>
          <a:xfrm>
            <a:off x="3003480" y="1052640"/>
            <a:ext cx="5267520" cy="5209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367" name="Text Box 5"/>
          <p:cNvSpPr/>
          <p:nvPr/>
        </p:nvSpPr>
        <p:spPr>
          <a:xfrm>
            <a:off x="228600" y="1066680"/>
            <a:ext cx="27432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tandard f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ll variations are about attaching the fender to the b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3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268C7-7936-4C42-8718-D760DA949A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Brainst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The overall goal is to obtain several concepts that might wor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All team members are encouraged to be open and uninhabited during the early ses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No need to adhere to product specifications, focus on the functional needs of the produ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The primary advantage of brainstorming is the ability of set of individuals to collectively build on each other to generate new ideas that would not arise individua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90720" y="99072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An intuitive method of generating conce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Date Placeholder 3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Footer Placeholder 4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3B1E-F0AD-4A00-8F6B-B32480CBA3A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Brainst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elect a group leader, to prevent judgments and to encourage participation by al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orm the group with 5 to 15 peop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Do not confine the group to experts in the a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Individuals could come to the session with a set of ide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Limit the brainstorming to 45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Do not include bosses, managers or supervisors in the grou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609480" y="9144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Some guidelines for brainstorming sess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2798-8DF6-41BE-B4A3-EEFD4ED736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1"/>
          <a:stretch/>
        </p:blipFill>
        <p:spPr>
          <a:xfrm>
            <a:off x="685800" y="4648320"/>
            <a:ext cx="4114800" cy="18064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Brainst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408636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5715000" y="4724280"/>
            <a:ext cx="2209680" cy="13226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414324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3">
            <a:lum contrast="40000"/>
          </a:blip>
          <a:stretch/>
        </p:blipFill>
        <p:spPr>
          <a:xfrm>
            <a:off x="1523880" y="914400"/>
            <a:ext cx="4572000" cy="30607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0"/>
          <p:cNvSpPr/>
          <p:nvPr/>
        </p:nvSpPr>
        <p:spPr>
          <a:xfrm>
            <a:off x="359568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5"/>
          <p:cNvSpPr/>
          <p:nvPr/>
        </p:nvSpPr>
        <p:spPr>
          <a:xfrm>
            <a:off x="3429000" y="5410080"/>
            <a:ext cx="1295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9"/>
          <p:cNvSpPr/>
          <p:nvPr/>
        </p:nvSpPr>
        <p:spPr>
          <a:xfrm>
            <a:off x="2971800" y="5486400"/>
            <a:ext cx="1828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0"/>
          <p:cNvSpPr/>
          <p:nvPr/>
        </p:nvSpPr>
        <p:spPr>
          <a:xfrm>
            <a:off x="3124080" y="5334120"/>
            <a:ext cx="14479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1"/>
          <p:cNvSpPr/>
          <p:nvPr/>
        </p:nvSpPr>
        <p:spPr>
          <a:xfrm>
            <a:off x="2895480" y="5867280"/>
            <a:ext cx="533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2"/>
          <p:cNvSpPr/>
          <p:nvPr/>
        </p:nvSpPr>
        <p:spPr>
          <a:xfrm>
            <a:off x="3809880" y="434340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2057400" y="6019920"/>
            <a:ext cx="26668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27"/>
          <p:cNvSpPr/>
          <p:nvPr/>
        </p:nvSpPr>
        <p:spPr>
          <a:xfrm>
            <a:off x="4038480" y="579132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9"/>
          <p:cNvSpPr/>
          <p:nvPr/>
        </p:nvSpPr>
        <p:spPr>
          <a:xfrm>
            <a:off x="4267080" y="4648320"/>
            <a:ext cx="533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47"/>
          <p:cNvSpPr/>
          <p:nvPr/>
        </p:nvSpPr>
        <p:spPr>
          <a:xfrm>
            <a:off x="2895480" y="4495680"/>
            <a:ext cx="1219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52"/>
          <p:cNvGrpSpPr/>
          <p:nvPr/>
        </p:nvGrpSpPr>
        <p:grpSpPr>
          <a:xfrm>
            <a:off x="2895480" y="3886200"/>
            <a:ext cx="3276720" cy="1011240"/>
            <a:chOff x="2895480" y="3886200"/>
            <a:chExt cx="3276720" cy="1011240"/>
          </a:xfrm>
        </p:grpSpPr>
        <p:pic>
          <p:nvPicPr>
            <p:cNvPr id="110" name="Picture 5" descr=""/>
            <p:cNvPicPr/>
            <p:nvPr/>
          </p:nvPicPr>
          <p:blipFill>
            <a:blip r:embed="rId4"/>
            <a:stretch/>
          </p:blipFill>
          <p:spPr>
            <a:xfrm>
              <a:off x="4343400" y="3886200"/>
              <a:ext cx="1828800" cy="9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Line 48"/>
            <p:cNvSpPr/>
            <p:nvPr/>
          </p:nvSpPr>
          <p:spPr>
            <a:xfrm flipV="1">
              <a:off x="2895480" y="4440240"/>
              <a:ext cx="167652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Text Box 49"/>
          <p:cNvSpPr/>
          <p:nvPr/>
        </p:nvSpPr>
        <p:spPr>
          <a:xfrm>
            <a:off x="5181480" y="1523880"/>
            <a:ext cx="10670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C2530-DA70-4F27-8D86-EF524DCED6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Brainst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85800" y="406440"/>
            <a:ext cx="8001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Memory Map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 – the group leader is responsible for recording the brainstorming s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rcRect l="838" t="0" r="0" b="0"/>
          <a:stretch/>
        </p:blipFill>
        <p:spPr>
          <a:xfrm>
            <a:off x="1523880" y="1371600"/>
            <a:ext cx="6172200" cy="5222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2"/>
          <p:cNvSpPr/>
          <p:nvPr/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Ken Youssef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UC Berkeley, ME Dep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1AA6-B744-4F8C-9FEB-F33F346B2B3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9900"/>
                </a:solidFill>
                <a:latin typeface="Times New Roman"/>
              </a:rPr>
              <a:t>Brainstor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987480" y="85716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ummarize the results of the brainstor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5563" t="3866" r="238" b="1157"/>
          <a:stretch/>
        </p:blipFill>
        <p:spPr>
          <a:xfrm>
            <a:off x="1068480" y="1525680"/>
            <a:ext cx="717552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Vicki</dc:creator>
  <dc:description/>
  <dc:language>en-US</dc:language>
  <cp:lastModifiedBy>walmart</cp:lastModifiedBy>
  <dcterms:modified xsi:type="dcterms:W3CDTF">2014-03-21T12:11:36Z</dcterms:modified>
  <cp:revision>66</cp:revision>
  <dc:subject/>
  <dc:title>PowerPoint Presentation</dc:title>
</cp:coreProperties>
</file>